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0E69C8-7936-4A56-9DAD-EB71ECE89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500C7-9657-4F25-BA09-4832967F6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6BA98-9E11-451E-8FCC-804557D91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27E18-34AD-4945-8860-0B27F8065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CA805-0AB5-4EC5-ABD8-094497C1F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CC771-1C3D-4775-AA6D-CD995F4FD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F93EE-8B12-44F9-86E1-EDC620575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75E8E-6A84-4122-A7E1-2D188607A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5C82C-055A-48B6-B617-A443A239D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D23CB-5515-4842-8CC4-BE3374AFD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2F9A2-5B70-496A-BB17-7EE07C805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01E64-7977-49BD-9B01-08D99D4B59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7CA6C-C882-4681-B91F-2025A049BE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ULTURA ROMANĂ</a:t>
            </a:r>
            <a:endParaRPr b="0" lang="en-US" sz="1400" spc="-1" strike="noStrike">
              <a:solidFill>
                <a:srgbClr val="000000"/>
              </a:solidFill>
              <a:latin typeface="Arial"/>
            </a:endParaRPr>
          </a:p>
        </p:txBody>
      </p:sp>
      <p:sp>
        <p:nvSpPr>
          <p:cNvPr id="42" name="Text Box 4"/>
          <p:cNvSpPr/>
          <p:nvPr/>
        </p:nvSpPr>
        <p:spPr>
          <a:xfrm>
            <a:off x="304920" y="380880"/>
            <a:ext cx="838188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PlaceHolder 2"/>
          <p:cNvSpPr>
            <a:spLocks noGrp="1"/>
          </p:cNvSpPr>
          <p:nvPr>
            <p:ph type="subTitle"/>
          </p:nvPr>
        </p:nvSpPr>
        <p:spPr>
          <a:xfrm>
            <a:off x="1371240" y="3886200"/>
            <a:ext cx="716292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daptat după </a:t>
            </a:r>
            <a:r>
              <a:rPr b="0" i="1" lang="fr-FR" sz="1000" spc="-1" strike="noStrike">
                <a:solidFill>
                  <a:srgbClr val="000000"/>
                </a:solidFill>
                <a:latin typeface="Arial"/>
              </a:rPr>
              <a:t>Manualul de Istorie</a:t>
            </a:r>
            <a:r>
              <a:rPr b="0" lang="ro-RO" sz="1000" spc="-1" strike="noStrike">
                <a:solidFill>
                  <a:srgbClr val="000000"/>
                </a:solidFill>
                <a:latin typeface="Arial"/>
              </a:rPr>
              <a:t>,</a:t>
            </a:r>
            <a:r>
              <a:rPr b="0" lang="en-US" sz="1000" spc="-1" strike="noStrike">
                <a:solidFill>
                  <a:srgbClr val="000000"/>
                </a:solidFill>
                <a:latin typeface="Arial"/>
              </a:rPr>
              <a:t> </a:t>
            </a:r>
            <a:r>
              <a:rPr b="0" i="1" lang="fr-FR" sz="1000" spc="-1" strike="noStrike">
                <a:solidFill>
                  <a:srgbClr val="000000"/>
                </a:solidFill>
                <a:latin typeface="Arial"/>
              </a:rPr>
              <a:t>clasa a V-a</a:t>
            </a:r>
            <a:r>
              <a:rPr b="0" lang="fr-FR" sz="1000" spc="-1" strike="noStrike">
                <a:solidFill>
                  <a:srgbClr val="000000"/>
                </a:solidFill>
                <a:latin typeface="Arial"/>
              </a:rPr>
              <a:t>, Zoe Petre, Laura Căpiţă, Monica Dvorski, Carol Căpiţă, Ioan Gros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7200" y="1600200"/>
            <a:ext cx="4038480" cy="365760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evenită centrul lumii civilizate, Roma este un oraş celebru prin construcţiile sale. La fiecare pas, întâlnim, păstrate şi astăzi, monumente împodobite cu mozaicuri, basoreliefuri, picturi sau statu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intre acestea, Colosseum-ul (cel mai mare amfiteatru roman), Altarul păcii ridicat de Augustus, Panteonul sau Forul lui Traian (care adăposteşte columna lui Traian) impresionează orice vizitator.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Oraşul are sisteme de canalizare şi apeducte, sute de fântâni, terme, basilici, biblioteci publice, portice, străzi şi pieţe pietrui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Întemeietori de oraşe, romanii preiau multe elemente de arhitectură de la greci, precum planurile teatrelor şi templelor. Acestora, ei le adaugă noi tehnici de construcţie (cupola) şi noi forme de monumente (arcul de triumf, termele, amfiteatrel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Noile oraşe, întemeiate adesea după un plan strict (planul rectangular) sunt împodobite cu monumente şi edificii publice amintind de cele din capitala imperiului.</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pic>
        <p:nvPicPr>
          <p:cNvPr id="46" name="Picture 6" descr=""/>
          <p:cNvPicPr/>
          <p:nvPr/>
        </p:nvPicPr>
        <p:blipFill>
          <a:blip r:embed="rId1"/>
          <a:stretch/>
        </p:blipFill>
        <p:spPr>
          <a:xfrm>
            <a:off x="4952880" y="1447920"/>
            <a:ext cx="360072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304560" y="1600200"/>
            <a:ext cx="7848360" cy="3124080"/>
          </a:xfrm>
          <a:prstGeom prst="rect">
            <a:avLst/>
          </a:prstGeom>
          <a:noFill/>
          <a:ln w="0">
            <a:noFill/>
          </a:ln>
        </p:spPr>
        <p:txBody>
          <a:bodyPr anchor="t">
            <a:normAutofit/>
          </a:bodyPr>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it-IT" sz="1200" spc="-1" strike="noStrike">
                <a:solidFill>
                  <a:srgbClr val="000000"/>
                </a:solidFill>
                <a:latin typeface="Arial"/>
              </a:rPr>
              <a:t>Redaţi pe scurt semnificaţia următorilor termeni :</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na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lebeu</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gistrat</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rdonaţi cronologic următoarele eveniment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ele lui Marius</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gile celor 12 table</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forma fraţilor Gracchi</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e urmări au avut:</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tituirea magistraturii de “tribun al plebei”</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tinderea cuceririlor romane în bazinul mediteranean</a:t>
            </a:r>
            <a:endParaRPr b="0" lang="en-US" sz="1200" spc="-1" strike="noStrike">
              <a:solidFill>
                <a:srgbClr val="000000"/>
              </a:solidFill>
              <a:latin typeface="Arial"/>
            </a:endParaRPr>
          </a:p>
          <a:p>
            <a:pPr lvl="1" marL="9907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dificările introduse în conducerea statului de către Cezar şi Octavian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3-08T12:46:10Z</dcterms:modified>
  <cp:revision>2</cp:revision>
  <dc:subject>CNEE</dc:subject>
  <dc:title>CN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